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E43D-F1CC-4DBC-8E0E-550E0AC4F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7F87-BBA0-48D7-B02F-83AAF8E9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3A1D-95AE-418A-831C-CAA38D28A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7A3C-A56C-4BAB-816E-83D955082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B876-F364-4BF1-9678-4DC26FFC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A801-2CBA-468B-B4B2-6B49F3FC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AD48-4FAB-40EC-9409-7615D7E7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444A-EBBF-466D-A8CE-002EAB43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4491-ED8B-4670-B342-4F5B72D8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0238-CDE3-41F9-87D5-C7DF6053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E3C2-E3B4-4FCE-B165-5D603364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13AC-38DE-4E76-8127-05256450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AC81-EA83-4292-8134-0F8A9070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CAE2-E1A3-4840-945E-C2BC8A48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AAF9-61E5-42DE-B9F3-518F4804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A1C3-39A8-47CA-B978-4E4F390B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FCC2-C6B1-4E04-9F69-39DE070B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1D73-DCE8-4207-B4C0-05C1F9A7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0791-4383-489B-A9B2-048F1E80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AD54-B242-4E65-A8F1-86CEB075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0B2A-C582-4EAF-B5F7-D4538D5F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0762-8F06-4283-885F-C5FCF813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605E-8E14-4504-AC44-D6560163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B511-0E22-4AF2-AE4C-A0E2ECC8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F6D2-49B8-409F-839D-5E5F726C0F2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DB70-F0A3-46FC-BD32-2213CC8E266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video.nationalgeographic.com/video/player/environment/environment-natural-disasters/earthquakes/earthquake-101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An Earthquake in Your Community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1, Chapter 3, Activity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 Earthquake in Your Commun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ear waves or secondary waves (s wav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ve rock material at right angles to the direction of the wa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travel only through solids (cannot travel through the center of the ea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ower than p wave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e difference in the arrival of these waves help us find the epicenter of the earthquak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 Earthquake in Your Commun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rface Wa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lowest kinds of wa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the surface where people are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use the most dam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kind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ve up and down like ocean wa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ve side to sid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atomy of a quak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 Earthquake in Your Commun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 Earthquake in Your Commun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arthquak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a sudden motion or shaking in the Earth caused by the abrupt release of slowly accumulated str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national geographic earthquakes 1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ease look on p. G125. Describe how an earthquake occu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ault plan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a fissure between two large pieces of earth where the pieces of earth are moving parallel to one anoth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ick video of computerized fault 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 Earthquake in Your Commun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earthquakes are form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ck masses on either side of a fault plane slip past one another in a parallel mo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ocks slowly and imperceptibly b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ntually the rocks break because of built up ben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udden release of energy as the rock breaks causes intense vib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 Earthquake in Your Commun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ismic wav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a general term for all elastic waves in the Earth, produced by earthquakes or generated artificially by explo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esy description of seismic wa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ythbusters cement truck explo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 Earthquake in Your Commun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aul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a fracture or fracture zone in rock, along which the rock masses have moved relative to one another parallel to the fract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ually caused by the movement of the earth’s pla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deo of the San Andres Fa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 Earthquake in Your Commun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ear strength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shear force (movement parallel) needed to break a solid mater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the shear strength is reached, the rock breaks along the fault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lastic rebound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eturn of a bent elastic solid to is original shape after the deforming force is remov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 Earthquake in Your Commun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ually the rocks in a fault zone have already been ruptured o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don’t they just slip continuously? (know this!!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some cases they 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iction due to pressure from deep in the earth presses the two sides toge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erals from slowly moving water gets deposited and acts as cement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stores shear streng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 Earthquake in Your Commun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point of an earthquake within th Earth where rupture first occurs to cause and earth quak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ually deep below the surf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picenter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oint on the Earth’s surface directly above the focus of an earthquak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ember to describe how the cracks fo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en cheesier description of wa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ault scarp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liff formed by a fault that reaches the Earth’s surf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 Earthquake in Your Commun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pressional or Primary waves (p wav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erial is moved back and forth in the direction of the wav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demonstrate using the slink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move through solids, liquids or gases; move more quickly in this descending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6T20:40:00Z</dcterms:created>
  <dc:creator>liebovichc</dc:creator>
  <dc:description/>
  <dc:language>en-US</dc:language>
  <cp:lastModifiedBy>Smyser, Cynthia Ann</cp:lastModifiedBy>
  <dcterms:modified xsi:type="dcterms:W3CDTF">2017-11-15T20:08:19Z</dcterms:modified>
  <cp:revision>7</cp:revision>
  <dc:subject/>
  <dc:title>An Earthquake in Your Community</dc:title>
</cp:coreProperties>
</file>